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834-7441-41E0-B04C-4E65ACB8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84D-A097-40B9-B373-27D478A5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212-9E6C-426C-8A33-A288DB58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8A5-EACB-49C1-82FB-14AAEBA2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65FA6-9507-4761-93CE-EEE64242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9148-0032-4441-9AE5-092CD6C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AB84E-D530-424C-BFA0-08F40EFE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3F984-DC34-4A89-B3E4-8CFBD25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A55A-398B-4B0E-A39C-F73D23AD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74E2-3F97-4F70-B991-A9FF92B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AF26E-08A8-4E49-B40A-438D6BA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E77-EFAB-4FBD-A921-B4DDD46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7749-AE49-4211-BA6F-59BC85F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17B74-1342-46F2-8DE5-AB8E757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0AD66-0912-4ACC-96A4-654F718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7870F-AEA2-4C07-ACE6-EFDF0FDD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C6E88-326E-4285-B186-4FDB0B23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AE2B-23A5-4DFF-88E3-512FC96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D72D-C898-42D9-8E45-CFF24662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40E5-339E-4187-AF92-1002D97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1EA65-BB15-4C32-937C-2D566F05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92F9-5849-4CBE-B93F-0038D19F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C24-73FF-4A08-AEB0-8FA3A245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C181A-1F49-484C-8F18-0DE736A7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DEE3-62D0-458B-989D-DC9B3F2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01AF-5E21-472F-AA24-370BB45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94F55-2B3A-4770-B4A0-0C2A3F7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C19F-FBD2-46E4-B013-D176DA3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48B3-56DB-4F23-B506-4DA6AA7C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EDD8-FD85-4B8F-99FA-A70C0C68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71D6-3E56-44F9-B9D8-0A3C637B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66CF-D4A9-4E0D-AA60-8C5E9D9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4E01-4958-4BF4-B0E3-033B5C3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3D7-A231-42F0-AFAE-E86BCCD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55DC-FC2C-4A72-8125-CB01949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B5EF6-8E2D-4AD0-9F6F-B07E1044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D2FB-C216-4505-BB58-13D97E89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A423-FDF7-4ED9-A38F-7CB8734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0D2D-0FD7-4DC2-96DB-4BD42C2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FCA84-44DD-4FB1-AD32-A4E5162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80D4-A8B1-468C-B0C0-68B5B8A9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D99E-929E-4895-AD67-486DA840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2290-66AD-45FB-B64F-BA74B87B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80FF-2D84-4255-A736-6CBDA48E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C93-16BC-4036-9FA6-AD03A94C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D348-049C-41F0-B5DE-29D0E17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8D69A-701E-4616-A11A-BB8AE265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A772-5306-4DA0-AE8B-40FE22F9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3635-F5E3-416B-8A89-1E389DC7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B945-1718-4F84-97A5-9CAAE152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4BCE-C9D9-42D3-873B-5B7095C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B36A-83CC-4BBD-B405-12E7BD5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79C4-7443-40B5-9ED0-013AC2FD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04FD2-3119-41ED-BB8D-D9C275F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5AB5-339C-4B8E-94A5-5A56884A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20F-41E4-4167-A35E-2F48922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9690A-52E8-4C89-B11C-E928696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1830-2579-4370-81FF-F2C4495E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6FCFE-8223-483E-8D80-0CB6F1ED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6D8A-3CBA-4213-9A29-2BB7FFBA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456B8-3D27-400E-A2AD-C11E698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531C-8D42-4EAB-ACEE-F87FFB5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6BEA-93C4-40F2-AD43-28DF19EE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EB79-A31B-4F67-BDB0-5DFBC07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46785-BC54-4DF7-94E7-D36ECF4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652D-2091-493F-BE26-9CBC883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D03-FEFC-4F77-A50D-3E9D717D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D35E-DB05-4B80-83F2-430B5EB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C281-3ED9-4704-8779-02917AE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EB3F-120A-42E7-BA62-5BD44053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CC5-4E9E-4F57-9B42-5755E74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15F-B742-467B-9FBB-F090CE1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0F4C-71CA-4850-A51C-9AEFBB7E3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283F-9F0F-4C08-8BBB-355883FF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051E-5DA9-40C6-9E57-BE5F508F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bbc6d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26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7606d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9C1-3E98-4997-BE38-5C1FB95D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C5C-33B7-4DD0-98F7-917720DAA1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CCA-1AD9-46AB-AF4B-FA51D30A8ED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jjill.com/jjillonline/product/itempage.aspx?item=SB089U&amp;PFID=1215&amp;BID=128004055&amp;h=W&amp;sk=W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store-us.hugoboss.com/Modern-Fit-Three-Button-&#8216;Stratus&#8217;-Coat/hbna50206661,en_US,pd.html?disableSizePreselection=true&amp;cgid=22000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57200" y="304920"/>
            <a:ext cx="8534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La Ropa de Rache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2743200" y="304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 Inviern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T's + Thermals"/>
          <p:cNvPicPr/>
          <p:nvPr/>
        </p:nvPicPr>
        <p:blipFill>
          <a:blip r:embed="rId7"/>
          <a:stretch/>
        </p:blipFill>
        <p:spPr>
          <a:xfrm rot="20989200">
            <a:off x="609120" y="2057040"/>
            <a:ext cx="2979720" cy="4530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9480" y="8380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uel lleva un camiseta de azul y rojo y el sombre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Down Parka"/>
          <p:cNvPicPr/>
          <p:nvPr/>
        </p:nvPicPr>
        <p:blipFill>
          <a:blip r:embed="rId8"/>
          <a:stretch/>
        </p:blipFill>
        <p:spPr>
          <a:xfrm>
            <a:off x="5181480" y="2362320"/>
            <a:ext cx="3426120" cy="38764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67057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29400" y="685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685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bel lleva un chaqueta de color mar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ón y un guantes de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 rot="388800">
            <a:off x="838080" y="1600200"/>
            <a:ext cx="2857680" cy="40482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295280" y="-1522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6600" spc="-1" strike="noStrike">
                <a:solidFill>
                  <a:srgbClr val="ffff00"/>
                </a:solidFill>
                <a:latin typeface="Tahoma"/>
              </a:rPr>
              <a:t>La Primavera</a:t>
            </a:r>
            <a:r>
              <a:rPr b="0" lang="es-CR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5867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ria lleva un vestido de bonita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LIGHT CARBIDE "/>
          <p:cNvPicPr/>
          <p:nvPr/>
        </p:nvPicPr>
        <p:blipFill>
          <a:blip r:embed="rId5"/>
          <a:stretch/>
        </p:blipFill>
        <p:spPr>
          <a:xfrm rot="370200">
            <a:off x="5829480" y="1909440"/>
            <a:ext cx="2666880" cy="47908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010280" y="685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blo lleva un 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uéter de gris y pantalones de color marrón.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81952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Tree Summer HD wallpaper for Wide 16:10 5:3 Widescreen WHXGA WQXGA WUXGA WXGA WGA ; HD 16:9 High Definition WQHD QWXGA 1080p 900p 720p QHD nHD ; Mobile WVGA PSP - WVGA WQVGA Smartphone ( HTC Samsung Sony Ericsson LG Vertu MIO ) Sony PSP Zune HD Zen ;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Lacoste + Malandrino Butterfly"/>
          <p:cNvPicPr/>
          <p:nvPr/>
        </p:nvPicPr>
        <p:blipFill>
          <a:blip r:embed="rId2"/>
          <a:stretch/>
        </p:blipFill>
        <p:spPr>
          <a:xfrm rot="365400">
            <a:off x="533520" y="2057400"/>
            <a:ext cx="2768400" cy="4152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Short Sleeve Super Dry Solid Tee-shirt"/>
          <p:cNvPicPr/>
          <p:nvPr/>
        </p:nvPicPr>
        <p:blipFill>
          <a:blip r:embed="rId3"/>
          <a:stretch/>
        </p:blipFill>
        <p:spPr>
          <a:xfrm rot="247800">
            <a:off x="6019560" y="1295280"/>
            <a:ext cx="2730240" cy="40957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624852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los lleva el T-shirt de rojo y los pantolones cortos de blan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457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rah lleva un blusa de amarillo y la falda de bonit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19520" y="457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l veran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puffer vest ">
            <a:hlinkClick r:id="rId2"/>
          </p:cNvPr>
          <p:cNvPicPr/>
          <p:nvPr/>
        </p:nvPicPr>
        <p:blipFill>
          <a:blip r:embed="rId3"/>
          <a:stretch/>
        </p:blipFill>
        <p:spPr>
          <a:xfrm rot="309600">
            <a:off x="228240" y="2209320"/>
            <a:ext cx="2835360" cy="4372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Modern Fit Three Button ‘Stratus’ Coat">
            <a:hlinkClick r:id="rId4"/>
          </p:cNvPr>
          <p:cNvPicPr/>
          <p:nvPr/>
        </p:nvPicPr>
        <p:blipFill>
          <a:blip r:embed="rId5"/>
          <a:stretch/>
        </p:blipFill>
        <p:spPr>
          <a:xfrm rot="252000">
            <a:off x="5790960" y="2209680"/>
            <a:ext cx="2925720" cy="44388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24382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El Oto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  <a:ea typeface="Arial"/>
              </a:rPr>
              <a:t>ño</a:t>
            </a:r>
            <a:r>
              <a:rPr b="0" lang="en-US" sz="5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0880" y="533520"/>
            <a:ext cx="1905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big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l lleva un chaleco de rosado y blue jean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8520" y="5335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dri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á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 lleva traje y la corbata de negr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886200" cy="3074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33520" y="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 buf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573080" y="-46800"/>
            <a:ext cx="21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s pantuf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2400480" cy="3124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7467480" y="2743200"/>
            <a:ext cx="1371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00"/>
                </a:solidFill>
                <a:latin typeface="Arial"/>
              </a:rPr>
              <a:t>Los calcetin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152280" y="4343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533520" y="39625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 co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3295800" cy="21225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12408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s gafas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8:21Z</dcterms:created>
  <dc:creator>hickeyrac</dc:creator>
  <dc:description/>
  <dc:language>en-US</dc:language>
  <cp:lastModifiedBy>hickeyrac</cp:lastModifiedBy>
  <dcterms:modified xsi:type="dcterms:W3CDTF">2011-12-14T13:43:29Z</dcterms:modified>
  <cp:revision>10</cp:revision>
  <dc:subject/>
  <dc:title>Slide 1</dc:title>
</cp:coreProperties>
</file>